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4815-05CB-49DB-90F8-C34AB1DDB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E179-8F15-4711-B1A5-4C984BBD6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003D-6B7D-42B6-AEB9-115AB246A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D657-C49D-44FF-A4B3-793457A78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61C7-C824-4FD0-8D0D-DDCA476B8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B040-B7ED-4F9D-A5ED-8C6CE9087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37A7-114A-423F-BF95-AD7C45EF4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9F5F-AADA-4A68-9556-8B59774BE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7D38-873F-42A9-9897-F72B47B05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82BF-DB70-4818-9F9C-45C62905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D15F-B019-4826-BE84-E4082E1D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D5CC-6FD6-40B9-8008-34B22638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99539-14DB-4966-804E-46AC682188AD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맑은 고딕"/>
              </a:rPr>
              <a:t>PPT VBA TEST</a:t>
            </a:r>
            <a:endParaRPr b="0" lang="en-US" sz="6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실행 단추: 앞으로 또는 다음으로 이동 3"/>
          <p:cNvSpPr/>
          <p:nvPr/>
        </p:nvSpPr>
        <p:spPr>
          <a:xfrm>
            <a:off x="4757760" y="4062240"/>
            <a:ext cx="2665440" cy="1352880"/>
          </a:xfrm>
          <a:custGeom>
            <a:avLst/>
            <a:gdLst>
              <a:gd name="textAreaLeft" fmla="*/ 87480 w 2665440"/>
              <a:gd name="textAreaRight" fmla="*/ 2577960 w 2665440"/>
              <a:gd name="textAreaTop" fmla="*/ 87480 h 1352880"/>
              <a:gd name="textAreaBottom" fmla="*/ 1265400 h 1352880"/>
            </a:gdLst>
            <a:ahLst/>
            <a:rect l="textAreaLeft" t="textAreaTop" r="textAreaRight" b="textAreaBottom"/>
            <a:pathLst>
              <a:path w="42551" h="21600">
                <a:moveTo>
                  <a:pt x="0" y="0"/>
                </a:moveTo>
                <a:lnTo>
                  <a:pt x="42551" y="0"/>
                </a:lnTo>
                <a:lnTo>
                  <a:pt x="42551" y="21600"/>
                </a:lnTo>
                <a:lnTo>
                  <a:pt x="0" y="21600"/>
                </a:lnTo>
                <a:close/>
              </a:path>
              <a:path fill="lightenLess" w="42551" h="21600">
                <a:moveTo>
                  <a:pt x="0" y="0"/>
                </a:moveTo>
                <a:lnTo>
                  <a:pt x="42551" y="0"/>
                </a:lnTo>
                <a:lnTo>
                  <a:pt x="41151" y="1400"/>
                </a:lnTo>
                <a:lnTo>
                  <a:pt x="1400" y="1400"/>
                </a:lnTo>
                <a:close/>
              </a:path>
              <a:path fill="darken" w="42551" h="21600">
                <a:moveTo>
                  <a:pt x="42551" y="0"/>
                </a:moveTo>
                <a:lnTo>
                  <a:pt x="42551" y="21600"/>
                </a:lnTo>
                <a:lnTo>
                  <a:pt x="41151" y="20200"/>
                </a:lnTo>
                <a:lnTo>
                  <a:pt x="41151" y="1400"/>
                </a:lnTo>
                <a:close/>
              </a:path>
              <a:path fill="darkenLess" w="42551" h="21600">
                <a:moveTo>
                  <a:pt x="42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51" y="20200"/>
                </a:lnTo>
                <a:close/>
              </a:path>
              <a:path fill="lighten" w="42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51" h="21600">
                <a:moveTo>
                  <a:pt x="14269" y="3794"/>
                </a:moveTo>
                <a:lnTo>
                  <a:pt x="28282" y="10800"/>
                </a:lnTo>
                <a:lnTo>
                  <a:pt x="14269" y="17806"/>
                </a:lnTo>
                <a:close/>
              </a:path>
            </a:pathLst>
          </a:cu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5T00:45:36Z</dcterms:created>
  <dc:creator>김 기정</dc:creator>
  <dc:description/>
  <dc:language>en-US</dc:language>
  <cp:lastModifiedBy>김 기정</cp:lastModifiedBy>
  <dcterms:modified xsi:type="dcterms:W3CDTF">2021-11-05T01:03:23Z</dcterms:modified>
  <cp:revision>7</cp:revision>
  <dc:subject/>
  <dc:title>PPT VBA TEST</dc:title>
</cp:coreProperties>
</file>